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67D1-C571-4CB7-A458-FFAAD52CC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FED9-BC75-4550-B8D0-0FEF826C5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6520-073F-4C35-8B24-9C607F788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CFE4-4F23-4194-BA9F-3CFF53B54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F5EC7-C70A-4BBB-9207-BEEB5230E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6041B-A1C6-41BB-BD01-FCF73EF30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FD94F-53AD-4F0E-B984-6824ABF6A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64BB7-DC6C-44DD-8EBE-4C058E285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4AC5D-6F7A-45B2-9213-D7B5FA7FF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9EBF6-8156-4E76-8251-824490895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7D99B-C31F-49C5-9E32-7C074891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6562-B802-4F7D-A5FF-9ECD28DA5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1B753-BC1F-4903-9747-13F85CE7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CA400-C8B8-4C46-B04E-E4158F48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39925-919A-4E86-A8AF-25082DCA3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AD349-BB31-4231-B4AB-054488B75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4F0D3-E1CD-4019-9070-2295C4232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8F57-CB7C-4B06-BC0A-A9203D4D6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D5C1-7D2C-49FE-BC0C-FD992EDE3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350D-E191-48A8-8F99-D07A2E37C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F05B-1FEC-4C12-8927-E3F8E7EF6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4771-5669-4B38-A8AB-DCD6D809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19EC-3591-4F8D-BE3F-76C10A10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FEA9-E7A6-4968-9EF5-AFF3CC4B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518D4-F384-42AB-B41C-2BF78E957A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2004C-AE34-43AB-BF7F-9FA0FBBF31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28600" y="68580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60036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21320" y="227160"/>
            <a:ext cx="3990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Constituição de 1937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1905120"/>
            <a:ext cx="8686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rt. 16.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Compete privativamente à União o poder de legislar sobre as seguintes matéri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....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XIV – os bens do domínio federal, minas, metalurgia, energia hidráulica, águas, floresta, caça e pesca e sua exploração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19:45:56Z</dcterms:created>
  <dc:creator>Alexandre Braule</dc:creator>
  <dc:description/>
  <dc:language>en-US</dc:language>
  <cp:lastModifiedBy>Alexandre Braule</cp:lastModifiedBy>
  <dcterms:modified xsi:type="dcterms:W3CDTF">2004-08-11T15:58:51Z</dcterms:modified>
  <cp:revision>72</cp:revision>
  <dc:subject/>
  <dc:title>Apresentação do PowerPoint</dc:title>
</cp:coreProperties>
</file>